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E0BB-AC6D-4785-9AA9-A1E6579F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E8A2-291B-4FA2-93E7-774691D6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8B5-6D2F-4771-824C-53BFAFC8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D7A-7581-4397-9EC7-094EE7F1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D68-E1F7-4047-953B-0D0748D5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31F-5B56-4D69-9E42-186B5B1B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F20-47FA-44FF-B7A7-37AF623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28BB-F861-4ED3-B5FD-805DAFDE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FAF-9409-4871-B69C-6FC37C0E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486-DCCC-4DDD-97BF-4F253BD7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43D-8EF5-4A06-B538-DC5450F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C25-72E6-43CC-B889-1167978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450-0CB5-4A94-A9C2-D3356A4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7B6-C5E2-47CC-AA87-979F841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DAA-3602-48FB-804A-06E2F6BB5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elli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Carmela. Vivo en New York. Tengo catorce anos. Tengo una hermana, Charlotte. Yo soy inteligente. S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bonita!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Donde estas?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…                                                                        Kellin Fu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armela! Son bie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81480"/>
            <a:ext cx="41148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2" descr="Photo on 2011-10-21 at 13.46.jpg"/>
          <p:cNvPicPr/>
          <p:nvPr/>
        </p:nvPicPr>
        <p:blipFill>
          <a:blip r:embed="rId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6"/>
          <p:cNvSpPr/>
          <p:nvPr/>
        </p:nvSpPr>
        <p:spPr>
          <a:xfrm>
            <a:off x="28195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os Dias! Como estas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3" descr="Photo on 2011-11-29 at 13.54.jpg"/>
          <p:cNvPicPr/>
          <p:nvPr/>
        </p:nvPicPr>
        <p:blipFill>
          <a:blip r:embed="rId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Screen Shot 2012-12-05 at 9.47.28 AM.png"/>
          <p:cNvPicPr/>
          <p:nvPr/>
        </p:nvPicPr>
        <p:blipFill>
          <a:blip r:embed="rId3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Screen Shot 2012-12-05 at 9.50.59 AM.png"/>
          <p:cNvPicPr/>
          <p:nvPr/>
        </p:nvPicPr>
        <p:blipFill>
          <a:blip r:embed="rId4"/>
          <a:stretch/>
        </p:blipFill>
        <p:spPr>
          <a:xfrm>
            <a:off x="2057400" y="32004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Screen Shot 2012-12-05 at 9.47.28 AM.png"/>
          <p:cNvPicPr/>
          <p:nvPr/>
        </p:nvPicPr>
        <p:blipFill>
          <a:blip r:embed="rId5"/>
          <a:stretch/>
        </p:blipFill>
        <p:spPr>
          <a:xfrm>
            <a:off x="76320" y="5029200"/>
            <a:ext cx="58896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reen Shot 2012-12-05 at 9.50.59 AM.png"/>
          <p:cNvPicPr/>
          <p:nvPr/>
        </p:nvPicPr>
        <p:blipFill>
          <a:blip r:embed="rId6"/>
          <a:stretch/>
        </p:blipFill>
        <p:spPr>
          <a:xfrm>
            <a:off x="762120" y="5029200"/>
            <a:ext cx="53172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creen Shot 2012-12-05 at 9.56.33 AM.png"/>
          <p:cNvPicPr/>
          <p:nvPr/>
        </p:nvPicPr>
        <p:blipFill>
          <a:blip r:embed="rId7"/>
          <a:stretch/>
        </p:blipFill>
        <p:spPr>
          <a:xfrm>
            <a:off x="2057400" y="38098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creen Shot 2012-12-05 at 9.56.33 AM.png"/>
          <p:cNvPicPr/>
          <p:nvPr/>
        </p:nvPicPr>
        <p:blipFill>
          <a:blip r:embed="rId8"/>
          <a:stretch/>
        </p:blipFill>
        <p:spPr>
          <a:xfrm>
            <a:off x="1371600" y="50292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Screen Shot 2012-12-07 at 9.32.04 AM.png"/>
          <p:cNvPicPr/>
          <p:nvPr/>
        </p:nvPicPr>
        <p:blipFill>
          <a:blip r:embed="rId9"/>
          <a:stretch/>
        </p:blipFill>
        <p:spPr>
          <a:xfrm>
            <a:off x="228600" y="685800"/>
            <a:ext cx="1447920" cy="178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creen Shot 2012-12-07 at 9.32.04 AM.png"/>
          <p:cNvPicPr/>
          <p:nvPr/>
        </p:nvPicPr>
        <p:blipFill>
          <a:blip r:embed="rId10"/>
          <a:stretch/>
        </p:blipFill>
        <p:spPr>
          <a:xfrm>
            <a:off x="2133720" y="4419720"/>
            <a:ext cx="4953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cp:lastPrinted>2012-12-07T14:55:48Z</cp:lastPrinted>
  <dcterms:modified xsi:type="dcterms:W3CDTF">2012-12-07T14:56:11Z</dcterms:modified>
  <cp:revision>109</cp:revision>
  <dc:subject/>
  <dc:title>Profile</dc:title>
</cp:coreProperties>
</file>